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381-C774-483D-8B25-4EF2A06D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1B7F-593A-46A6-810E-3D52E81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48F-3ADA-407C-9364-960B695B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CB06-8C17-4B6B-9481-58279B0A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1607-DAB1-481F-BEA3-9011CF79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458F-92F5-4176-B84E-A98AADCE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DB90-3900-45DE-B884-5939F90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7A74-2F52-4C02-B960-D1E12FAF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6AFA-CB09-4FF9-8613-316CB940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0E6-D293-4737-BCF7-71A7B97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ED8C-03BE-488C-9A0C-678AD786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5762-3DB9-48A4-AFED-C8CBC959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870A-C5D5-4DA7-84DF-0BE15CEB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CA47-1D9B-443E-99CD-56BA0387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A61-384F-412F-8D10-0591946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AF69-12A3-4515-8715-4CC6F805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0C31-DC1D-4809-8782-CC02EF54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ADF-716D-4F9F-9351-525BC0E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E18-2964-4468-8850-CE71CA9E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35F-3714-46E3-9B92-834A6E3E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9DA-6A9F-46C3-B181-0032EF90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917-6989-4217-9260-9788D7F7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D51-128D-4849-BF56-D87266FF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34B-83C6-46D5-9FC2-37E3A143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EFA5-43ED-462C-8BB9-306ADE252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773B-AD60-4403-9088-045022F086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1676520"/>
            <a:ext cx="4952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Universidad GALIL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5715000"/>
            <a:ext cx="2819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c. Carlos Oliva Mayo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2390760" cy="328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39076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733920" y="373392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III Encuentro de Profes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tas Co-op de Color Codificad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66880"/>
            <a:ext cx="83818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ahoma"/>
              </a:rPr>
              <a:t>Hacer Cartas con las respuestas incorrecta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3124080"/>
            <a:ext cx="60984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600200"/>
            <a:ext cx="777240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lor-Coded Co-op Card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1981080"/>
            <a:ext cx="1295280" cy="1600200"/>
          </a:xfrm>
          <a:prstGeom prst="rect">
            <a:avLst/>
          </a:prstGeom>
          <a:solidFill>
            <a:srgbClr val="3d07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9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438280"/>
            <a:ext cx="1295280" cy="1600200"/>
          </a:xfrm>
          <a:prstGeom prst="rect">
            <a:avLst/>
          </a:prstGeom>
          <a:solidFill>
            <a:srgbClr val="3d07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811600"/>
            <a:ext cx="129564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ues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133720"/>
            <a:ext cx="1295280" cy="1600200"/>
          </a:xfrm>
          <a:prstGeom prst="rect">
            <a:avLst/>
          </a:prstGeom>
          <a:solidFill>
            <a:srgbClr val="ee13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x 6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2590920"/>
            <a:ext cx="1295280" cy="1600200"/>
          </a:xfrm>
          <a:prstGeom prst="rect">
            <a:avLst/>
          </a:prstGeom>
          <a:solidFill>
            <a:srgbClr val="ee130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963880"/>
            <a:ext cx="1143000" cy="724320"/>
          </a:xfrm>
          <a:prstGeom prst="rect">
            <a:avLst/>
          </a:prstGeom>
          <a:solidFill>
            <a:srgbClr val="ee13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572000"/>
            <a:ext cx="1295280" cy="1600200"/>
          </a:xfrm>
          <a:prstGeom prst="rect">
            <a:avLst/>
          </a:prstGeom>
          <a:solidFill>
            <a:srgbClr val="14ee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x 7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5029200"/>
            <a:ext cx="1295280" cy="1600200"/>
          </a:xfrm>
          <a:prstGeom prst="rect">
            <a:avLst/>
          </a:prstGeom>
          <a:solidFill>
            <a:srgbClr val="14ee2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5402160"/>
            <a:ext cx="1067040" cy="677520"/>
          </a:xfrm>
          <a:prstGeom prst="rect">
            <a:avLst/>
          </a:prstGeom>
          <a:solidFill>
            <a:srgbClr val="14e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572000"/>
            <a:ext cx="1295280" cy="1600200"/>
          </a:xfrm>
          <a:prstGeom prst="rect">
            <a:avLst/>
          </a:prstGeom>
          <a:solidFill>
            <a:srgbClr val="fbf5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x 4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5029200"/>
            <a:ext cx="1295280" cy="1600200"/>
          </a:xfrm>
          <a:prstGeom prst="rect">
            <a:avLst/>
          </a:prstGeom>
          <a:solidFill>
            <a:srgbClr val="fbf5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5402160"/>
            <a:ext cx="1067040" cy="724320"/>
          </a:xfrm>
          <a:prstGeom prst="rect">
            <a:avLst/>
          </a:prstGeom>
          <a:solidFill>
            <a:srgbClr val="fbf5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666880"/>
            <a:ext cx="838188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esarrollar el Juego de Memoria (Flash Card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juegan las rondas 1, 2 y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cambian los roles después de cada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be incluirse estímulos y ayu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3276720"/>
            <a:ext cx="609480" cy="53316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666880"/>
            <a:ext cx="8381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esarrollar el Juego de Memoria (Flash Card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nda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áximas Señ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4038480"/>
            <a:ext cx="1295280" cy="1600200"/>
          </a:xfrm>
          <a:prstGeom prst="rect">
            <a:avLst/>
          </a:prstGeom>
          <a:solidFill>
            <a:srgbClr val="3d07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9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4572000"/>
            <a:ext cx="1295280" cy="1600200"/>
          </a:xfrm>
          <a:prstGeom prst="rect">
            <a:avLst/>
          </a:prstGeom>
          <a:solidFill>
            <a:srgbClr val="3d07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889520"/>
            <a:ext cx="129528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uesta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867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oria de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3276720"/>
            <a:ext cx="609480" cy="53316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666880"/>
            <a:ext cx="8381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esarrollar el Juego de Memoria (Flash Card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nda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cas Señ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038480"/>
            <a:ext cx="1295280" cy="1600200"/>
          </a:xfrm>
          <a:prstGeom prst="rect">
            <a:avLst/>
          </a:prstGeom>
          <a:solidFill>
            <a:srgbClr val="3d07c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un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9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5867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mori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276720"/>
            <a:ext cx="609480" cy="53316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666880"/>
            <a:ext cx="838188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Desarrollar el Juego de Memoria (Flash Card G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onda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6600" spc="-1" strike="noStrike">
                <a:solidFill>
                  <a:srgbClr val="ffffff"/>
                </a:solidFill>
                <a:latin typeface="Tahoma"/>
              </a:rPr>
              <a:t>Sin Señal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3276720"/>
            <a:ext cx="609480" cy="53316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078000"/>
            <a:ext cx="838188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Tahoma"/>
              </a:rPr>
              <a:t>Test Práct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657600"/>
            <a:ext cx="60984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666880"/>
            <a:ext cx="838188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Tahoma"/>
              </a:rPr>
              <a:t>Se desarrolla el acumulado inicial de Log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Cada miembro aporta, de acuerdo a sus logros, al resultado del equipo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3048120"/>
            <a:ext cx="609480" cy="53316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666880"/>
            <a:ext cx="83818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cc00"/>
                </a:solidFill>
                <a:latin typeface="Tahoma"/>
              </a:rPr>
              <a:t>Se hace de nuevo el Juego de Memoria con las respuestas incorrecta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523880"/>
            <a:ext cx="792468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200400"/>
            <a:ext cx="60948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895480"/>
            <a:ext cx="64008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cc00"/>
                </a:solidFill>
                <a:latin typeface="Tahoma"/>
              </a:rPr>
              <a:t>Se hace la prueba fi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523880"/>
            <a:ext cx="7543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657600"/>
            <a:ext cx="60948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600200"/>
            <a:ext cx="6858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ministración de Equipos Cooper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strucción de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nstrucción de A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strezas para coope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incipios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895480"/>
            <a:ext cx="78487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ahoma"/>
              </a:rPr>
              <a:t>Se desarrolla el acumulado final de Logr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523880"/>
            <a:ext cx="7543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657600"/>
            <a:ext cx="60948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2895480"/>
            <a:ext cx="78487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ahoma"/>
              </a:rPr>
              <a:t>Reconocimiento individual, de los equipo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Tahoma"/>
              </a:rPr>
              <a:t>y de la cl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523880"/>
            <a:ext cx="7543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3657600"/>
            <a:ext cx="60984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895480"/>
            <a:ext cx="784872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flexiones fin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Que es lo bueno de trabajar ju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Cómo mejora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523880"/>
            <a:ext cx="7543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657600"/>
            <a:ext cx="60984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00200"/>
            <a:ext cx="838224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ando equipo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 soy Yo prefier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sano cie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e del garaba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mbre y can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7315200" y="5638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0020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quip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gén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éne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 az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160020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ministración de Equipos Coopera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ñal de Exito, Señal de Silen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2514600"/>
            <a:ext cx="685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Construcción de Equip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nstrucción de Au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1600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rincipios B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514600"/>
            <a:ext cx="6400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dependencia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abilidad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icipación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ta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ción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ulta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6114600" y="3905280"/>
            <a:ext cx="3124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2590920"/>
            <a:ext cx="457200" cy="3352680"/>
          </a:xfrm>
          <a:custGeom>
            <a:avLst/>
            <a:gdLst>
              <a:gd name="textAreaLeft" fmla="*/ 0 w 457200"/>
              <a:gd name="textAreaRight" fmla="*/ 164880 w 4572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600200"/>
            <a:ext cx="6858000" cy="48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Estructura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res de Conten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tando Cabezas Nume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írculos Dentro Círculos Fu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ego de Mem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gsaw de Exper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8610480" y="64008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Cartas Co-op de Color Codific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666880"/>
            <a:ext cx="914400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ta estructura es útil para aprender conceptos básicos com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a tablas de multipl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ocabul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stados y capitales y muchas m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00200"/>
            <a:ext cx="784872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rendizaje Cooperativ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0020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5f503"/>
                </a:solidFill>
                <a:latin typeface="Tahoma"/>
              </a:rPr>
              <a:t>Color-Coded Co-op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rategia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tas Co-op de Color Codificado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666880"/>
            <a:ext cx="8381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as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Tahoma"/>
              </a:rPr>
              <a:t>Pret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ahoma"/>
              </a:rPr>
              <a:t>Se aplica un test sobre los conceptos básicos de la sema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352680"/>
            <a:ext cx="609480" cy="533520"/>
          </a:xfrm>
          <a:prstGeom prst="ellipse">
            <a:avLst/>
          </a:prstGeom>
          <a:solidFill>
            <a:srgbClr val="3d07c5"/>
          </a:solidFill>
          <a:ln w="9360">
            <a:solidFill>
              <a:srgbClr val="3d0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1676520"/>
            <a:ext cx="7848720" cy="1066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04:16:21Z</dcterms:created>
  <dc:creator>Carlos Oliva Mayorga</dc:creator>
  <dc:description/>
  <dc:language>en-US</dc:language>
  <cp:lastModifiedBy>Carlos Oliva Mayorga</cp:lastModifiedBy>
  <dcterms:modified xsi:type="dcterms:W3CDTF">2004-11-24T15:58:07Z</dcterms:modified>
  <cp:revision>7</cp:revision>
  <dc:subject/>
  <dc:title>Diapositiva 1</dc:title>
</cp:coreProperties>
</file>