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0DC-4453-4DE8-914E-AD5DF951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AFC-1A1D-4BB1-AB51-51BBE0B3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EA6-9F4A-46A4-9A9B-67E25E5C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7E7-89CF-4593-8186-FE2D43D1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CBA7-5EBC-4182-A53A-8A5C5D41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2082-FBA0-4F0E-8F6C-F1B24964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C0A2-98EE-46B2-BD93-76E6C5F4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C5DF-C96C-4A9E-BDDE-57C4D64C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3B11-7FD3-4CC1-899A-0A254F49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10C3-FF0C-4C01-90F9-627EB8F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45DF-FACF-47C8-8349-AC506AEF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9FF-2EE0-4840-9997-99ACEF0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C85-BA77-4AA9-A9F6-D80115F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1928-5B63-4BBB-B7DA-AEF7D7D3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CC57-D3CF-4FD5-AACE-9657E0D0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F991-C6BA-4CD5-A098-5F0AFA90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567E-EB81-4909-B788-8DBCEE40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681-87E9-4FDB-8D6E-20705C52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1FB-9725-40CA-9DA5-76855BB8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EF0-B6B9-4468-85BC-E71D795D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EA6-5841-4844-B8BD-49A007F3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8C1-5340-4431-AECE-1078D6A3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796-4D20-448C-80DC-EB7570C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7CC-C444-4439-A45D-9FC91940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78FC-01C3-4D2F-8650-721AB95190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16BB-679D-43DD-BF93-496C1C034896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467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66"/>
                </a:solidFill>
                <a:latin typeface="Perpetua Titling MT"/>
              </a:rPr>
              <a:t>ENSEÑANZA SUPERIOR Y</a:t>
            </a:r>
            <a:br>
              <a:rPr sz="4800"/>
            </a:br>
            <a:r>
              <a:rPr b="0" lang="es-MX" sz="4800" spc="-1" strike="noStrike">
                <a:solidFill>
                  <a:srgbClr val="ffff66"/>
                </a:solidFill>
                <a:latin typeface="Perpetua Titling MT"/>
              </a:rPr>
              <a:t>TENDENCIAS ACTUAL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8400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Tendencias actuales en la enseñanza superio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Tahoma"/>
              </a:rPr>
              <a:t>“ </a:t>
            </a:r>
            <a:r>
              <a:rPr b="0" lang="es-MX" sz="4000" spc="-1" strike="noStrike">
                <a:solidFill>
                  <a:srgbClr val="ccecff"/>
                </a:solidFill>
                <a:latin typeface="Tahoma"/>
              </a:rPr>
              <a:t>El enseñar sólo es posible cuando también es posible aprender.  Y el aprender sólo es posible cuando te enseñas algo a ti mismo.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MX" sz="1200" spc="-1" strike="noStrike">
                <a:solidFill>
                  <a:srgbClr val="ccecff"/>
                </a:solidFill>
                <a:latin typeface="Tahoma"/>
              </a:rPr>
              <a:t>( Anthony de Mello)</a:t>
            </a: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445760"/>
            <a:ext cx="74674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¿Qué significa</a:t>
            </a:r>
            <a:br>
              <a:rPr sz="4800"/>
            </a:b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 “ Enseñanza Superior</a:t>
            </a:r>
            <a:r>
              <a:rPr b="0" lang="es-MX" sz="6600" spc="-1" strike="noStrike">
                <a:solidFill>
                  <a:srgbClr val="ccffff"/>
                </a:solidFill>
                <a:latin typeface="Tahoma"/>
              </a:rPr>
              <a:t>”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Tahoma"/>
              </a:rPr>
              <a:t>Es la cúspide de la educación. </a:t>
            </a:r>
            <a:r>
              <a:rPr b="0" lang="es-MX" sz="1200" spc="-1" strike="noStrike">
                <a:solidFill>
                  <a:srgbClr val="ccecff"/>
                </a:solidFill>
                <a:latin typeface="Tahoma"/>
              </a:rPr>
              <a:t>( González Orellana, 1992)</a:t>
            </a: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9" name="BD06986_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819440" cy="1755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1066680"/>
            <a:ext cx="7620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Un país será lo que es su educación y la educación depende en gran manera de la filosofía que la sustenta y de cómo esa filosofía se traduce en políticas que a su vez se convierten en congruentes realidades educativas de todas las instancias educadoras.” </a:t>
            </a: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Minugua, 199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ccffff"/>
                </a:solidFill>
                <a:latin typeface="Tahoma"/>
              </a:rPr>
              <a:t>¿ </a:t>
            </a: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Qué es un “ modelo educativo”?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Tahoma"/>
              </a:rPr>
              <a:t>Es el conjunto de métodos, estrategias y técnicas didácticas que adopta una institución para la enseñanza-aprendizaj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" name="BD04969_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523880" cy="1409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¿ Cuáles son los modelos educativos de mayor trascendencia en la historia de la educació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a. El modelo tradicional o bancario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6" name="PE02376_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2295360" cy="2284200"/>
          </a:xfrm>
          <a:prstGeom prst="rect">
            <a:avLst/>
          </a:prstGeom>
          <a:ln w="0">
            <a:noFill/>
          </a:ln>
        </p:spPr>
      </p:pic>
      <p:pic>
        <p:nvPicPr>
          <p:cNvPr id="97" name="BD06386_" descr=""/>
          <p:cNvPicPr/>
          <p:nvPr/>
        </p:nvPicPr>
        <p:blipFill>
          <a:blip r:embed="rId3"/>
          <a:stretch/>
        </p:blipFill>
        <p:spPr>
          <a:xfrm flipH="1">
            <a:off x="4648320" y="3733920"/>
            <a:ext cx="2209680" cy="1724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b. Modelo conductist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BD06630_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194148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BD07156_" descr=""/>
          <p:cNvPicPr/>
          <p:nvPr/>
        </p:nvPicPr>
        <p:blipFill>
          <a:blip r:embed="rId3"/>
          <a:stretch/>
        </p:blipFill>
        <p:spPr>
          <a:xfrm>
            <a:off x="3657600" y="2895480"/>
            <a:ext cx="1817640" cy="1924200"/>
          </a:xfrm>
          <a:prstGeom prst="rect">
            <a:avLst/>
          </a:prstGeom>
          <a:ln w="0">
            <a:noFill/>
          </a:ln>
        </p:spPr>
      </p:pic>
      <p:pic>
        <p:nvPicPr>
          <p:cNvPr id="101" name="BD07227_" descr=""/>
          <p:cNvPicPr/>
          <p:nvPr/>
        </p:nvPicPr>
        <p:blipFill>
          <a:blip r:embed="rId4"/>
          <a:stretch/>
        </p:blipFill>
        <p:spPr>
          <a:xfrm>
            <a:off x="6705720" y="4419720"/>
            <a:ext cx="12254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BD07226_" descr=""/>
          <p:cNvPicPr/>
          <p:nvPr/>
        </p:nvPicPr>
        <p:blipFill>
          <a:blip r:embed="rId5"/>
          <a:stretch/>
        </p:blipFill>
        <p:spPr>
          <a:xfrm>
            <a:off x="6553080" y="1981080"/>
            <a:ext cx="1314720" cy="186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. Modelo constructivist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BD07223_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1819080" cy="1716120"/>
          </a:xfrm>
          <a:prstGeom prst="rect">
            <a:avLst/>
          </a:prstGeom>
          <a:ln w="0">
            <a:noFill/>
          </a:ln>
        </p:spPr>
      </p:pic>
      <p:pic>
        <p:nvPicPr>
          <p:cNvPr id="105" name="BD07216_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1754280" cy="1373040"/>
          </a:xfrm>
          <a:prstGeom prst="rect">
            <a:avLst/>
          </a:prstGeom>
          <a:ln w="0">
            <a:noFill/>
          </a:ln>
        </p:spPr>
      </p:pic>
      <p:pic>
        <p:nvPicPr>
          <p:cNvPr id="106" name="BD07204_" descr=""/>
          <p:cNvPicPr/>
          <p:nvPr/>
        </p:nvPicPr>
        <p:blipFill>
          <a:blip r:embed="rId4"/>
          <a:stretch/>
        </p:blipFill>
        <p:spPr>
          <a:xfrm>
            <a:off x="1828800" y="4343400"/>
            <a:ext cx="2209680" cy="1441440"/>
          </a:xfrm>
          <a:prstGeom prst="rect">
            <a:avLst/>
          </a:prstGeom>
          <a:ln w="0">
            <a:noFill/>
          </a:ln>
        </p:spPr>
      </p:pic>
      <p:pic>
        <p:nvPicPr>
          <p:cNvPr id="107" name="BD00146_" descr=""/>
          <p:cNvPicPr/>
          <p:nvPr/>
        </p:nvPicPr>
        <p:blipFill>
          <a:blip r:embed="rId5"/>
          <a:stretch/>
        </p:blipFill>
        <p:spPr>
          <a:xfrm>
            <a:off x="4800600" y="4724280"/>
            <a:ext cx="1827360" cy="1812960"/>
          </a:xfrm>
          <a:prstGeom prst="rect">
            <a:avLst/>
          </a:prstGeom>
          <a:ln w="0">
            <a:noFill/>
          </a:ln>
        </p:spPr>
      </p:pic>
      <p:pic>
        <p:nvPicPr>
          <p:cNvPr id="108" name="BS02091_" descr=""/>
          <p:cNvPicPr/>
          <p:nvPr/>
        </p:nvPicPr>
        <p:blipFill>
          <a:blip r:embed="rId6"/>
          <a:stretch/>
        </p:blipFill>
        <p:spPr>
          <a:xfrm>
            <a:off x="4038480" y="2133720"/>
            <a:ext cx="2210040" cy="1911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incipios didácticos de la Enseñanza Superi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alor científico a los conoci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Unidad del contenido y la forma de enseñar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incipio del aprendizaje a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similación conc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Unidad entre teoría y prác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5:19:58Z</dcterms:created>
  <dc:creator>User</dc:creator>
  <dc:description/>
  <dc:language>en-US</dc:language>
  <cp:lastModifiedBy>REYNOSO</cp:lastModifiedBy>
  <dcterms:modified xsi:type="dcterms:W3CDTF">2004-11-23T17:22:53Z</dcterms:modified>
  <cp:revision>2</cp:revision>
  <dc:subject/>
  <dc:title>ENSEÑANZA SUPERIOR Y TENDENCIAS ACTUALES</dc:title>
</cp:coreProperties>
</file>