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AAE8-6204-438E-9173-9BD7183E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DF68-9F8F-4342-9F2F-AD47F065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BE96-B025-40F9-9EA9-697793283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E90E-C61C-4793-9F94-C34B896A3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81BE-BF12-4C66-9AE6-49974A31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4C3F-D139-499A-B3E2-76FEA900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7886-1B0F-4301-9111-FBB053BF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B6CF-C1FE-4C5F-8322-A95203C2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D447-1458-4977-AA99-C43116FF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2CFC-CA12-47DE-A949-275A9DE6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1C96-2241-479B-BD22-9DDE43D7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D35D-0501-4B1F-9F63-0CC2EDA6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FEF3-E61C-4210-9BA2-FB8CEEE630B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58672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Arial Narrow"/>
                <a:ea typeface="Arial"/>
              </a:rPr>
              <a:t>EL AGUILA ES EL AVE DE MAYOR LONGEVIDAD DE SU ESPECIE. LLEGA A VIVIR 70  AÑ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Narrow"/>
                <a:ea typeface="Arial"/>
              </a:rPr>
              <a:t>PERO PARA LLEGAR A ESA EDAD, A LOS 40  AÑOS, DEBERA TOMAR UNA SERIA Y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 </a:t>
            </a:r>
            <a:r>
              <a:rPr b="1" lang="es-MX" sz="2400" spc="-1" strike="noStrike">
                <a:solidFill>
                  <a:srgbClr val="ffffff"/>
                </a:solidFill>
                <a:latin typeface="Arial Narrow"/>
                <a:ea typeface="Arial"/>
              </a:rPr>
              <a:t>DIFICIL DECISION.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03040" y="4495680"/>
            <a:ext cx="944856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fffff"/>
                </a:solidFill>
                <a:latin typeface="Arial Narrow"/>
                <a:ea typeface="Arial"/>
              </a:rPr>
              <a:t>A LOS 40  AÑOS SUS UÑAS ESTAN APRETADAS Y FLEXIBLES, SIN CONSEGUIR TOMAR A  SUS PRESAS DE LAS CUALES SE ALIMENT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1" lang="es-MX" sz="2300" spc="-1" strike="noStrike">
                <a:solidFill>
                  <a:srgbClr val="ffffff"/>
                </a:solidFill>
                <a:latin typeface="Arial Narrow"/>
                <a:ea typeface="Arial"/>
              </a:rPr>
              <a:t>SU PICO LARGO Y PUNTIAGUDO SE CURVA APUNTANDO CONTRA SU PECHO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1" lang="es-MX" sz="2300" spc="-1" strike="noStrike">
                <a:solidFill>
                  <a:srgbClr val="ffffff"/>
                </a:solidFill>
                <a:latin typeface="Arial Narrow"/>
                <a:ea typeface="Arial"/>
              </a:rPr>
              <a:t>SUS ALAS  ESTAN ENVEJECIDAS Y PESADAS, Y SUS PLUMAS GRUESAS. VOLAR SE HACE YA MUY  DIFICI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  <a:ea typeface="Arial"/>
              </a:rPr>
              <a:t>ENTONCES EL AGUILA TIENE SOLAMENTE DOS ALTERNATIVAS: MORIR O  ENFRENTAR SU DOLORIDO PROCESO DE RENOVACION, QUE DURARA 150 DI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51055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  <a:ea typeface="Arial"/>
              </a:rPr>
              <a:t>ESE PROCESO CONSISTE EN VOLAR HACIA LO ALTO DE UNA MONTAÑA Y QUEDARSE AHI EN UN NIDO CERCANO AUN PAREDON, EN DONDE NO TENGA LA NECESIDAD DE VO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" descr=""/>
          <p:cNvPicPr/>
          <p:nvPr/>
        </p:nvPicPr>
        <p:blipFill>
          <a:blip r:embed="rId1"/>
          <a:stretch/>
        </p:blipFill>
        <p:spPr>
          <a:xfrm>
            <a:off x="4114800" y="1420920"/>
            <a:ext cx="5143680" cy="513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9144000" cy="16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1" lang="es-MX" sz="2300" spc="-1" strike="noStrike">
                <a:solidFill>
                  <a:srgbClr val="ffffff"/>
                </a:solidFill>
                <a:latin typeface="Arial Narrow"/>
                <a:ea typeface="Arial"/>
              </a:rPr>
              <a:t>DESPUES AL ENCONTRARSE EN EL LUGAR, EL AGUILA COMIENZA A GOLPEAR CON SU PICO  EN LA PARED HASTA CONSEGUIR ARRANCARL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1" lang="es-MX" sz="2300" spc="-1" strike="noStrike">
                <a:solidFill>
                  <a:srgbClr val="ffffff"/>
                </a:solidFill>
                <a:latin typeface="Arial Narrow"/>
                <a:ea typeface="Arial"/>
              </a:rPr>
              <a:t>DESPUES DE ARRANCARLO, ESPERARA EL CRECIMIENTO DE UNO NUEVO CON EL QUE DESPRENDERA UNA A UNA  SUS UÑAS TALONES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200400"/>
            <a:ext cx="4800600" cy="16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fffff"/>
                </a:solidFill>
                <a:latin typeface="Arial Narrow"/>
                <a:ea typeface="Arial"/>
              </a:rPr>
              <a:t>CUANDO LOS NUEVOS TALONES COMIENZAN A NACER, COMENZARA </a:t>
            </a:r>
            <a:br>
              <a:rPr sz="2300"/>
            </a:br>
            <a:r>
              <a:rPr b="1" lang="es-MX" sz="2300" spc="-1" strike="noStrike">
                <a:solidFill>
                  <a:srgbClr val="ffffff"/>
                </a:solidFill>
                <a:latin typeface="Arial Narrow"/>
                <a:ea typeface="Arial"/>
              </a:rPr>
              <a:t>A DESPLUMAR SUS PLUMAS VIEJ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55627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Narrow"/>
                <a:ea typeface="Arial"/>
              </a:rPr>
              <a:t>DESPUES DE CINCO MESES SALE PARA EL FAMOSO VUELO DE RENOVACION QUE LE DARA  30  AÑOS MAS DE VIDA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423keagleonwin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49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752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  <a:ea typeface="Arial"/>
              </a:rPr>
              <a:t>EN NUESTRA VIDA MUCHAS VECES TENEMOS QUE RESGUARDARNOS POR ALGUN TIEMPO Y COMENZAR UN PROCESO DE RENOVAC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020101Eaglespirit" descr=""/>
          <p:cNvPicPr/>
          <p:nvPr/>
        </p:nvPicPr>
        <p:blipFill>
          <a:blip r:embed="rId2"/>
          <a:stretch/>
        </p:blipFill>
        <p:spPr>
          <a:xfrm>
            <a:off x="0" y="4800600"/>
            <a:ext cx="9144000" cy="2057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505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 Narrow"/>
                <a:ea typeface="Arial"/>
              </a:rPr>
              <a:t>PARA CONTINUAR UN VUELO DE VICTORIA, DEBEMOS DESPRENDERNOS DE  COSTUMBRES, TRADICIONES Y RECUERDOS QUE NOS CAUSARON DOL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0131eagle" descr=""/>
          <p:cNvPicPr/>
          <p:nvPr/>
        </p:nvPicPr>
        <p:blipFill>
          <a:blip r:embed="rId2"/>
          <a:stretch/>
        </p:blipFill>
        <p:spPr>
          <a:xfrm>
            <a:off x="0" y="2538360"/>
            <a:ext cx="9144000" cy="2146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2590920"/>
            <a:ext cx="739152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 Narrow"/>
                <a:ea typeface="Arial"/>
              </a:rPr>
              <a:t>SOLAMENTE LIBRES DEL PESO DEL PASADO Y ACOMPAÑADOS DEL AMOR DE DIOS, PODREMOS APROVECHAR EL RESULTADO </a:t>
            </a:r>
            <a:r>
              <a:rPr b="1" lang="es-MX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VALIOSO  QUE UNA RENOVACION SIEMPRE NOS TR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n Cariñ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ario Ren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4T21:12:43Z</dcterms:created>
  <dc:creator>Laura Munguía Torres</dc:creator>
  <dc:description/>
  <dc:language>en-US</dc:language>
  <cp:lastModifiedBy>PROFED</cp:lastModifiedBy>
  <dcterms:modified xsi:type="dcterms:W3CDTF">2003-06-17T13:45:34Z</dcterms:modified>
  <cp:revision>30</cp:revision>
  <dc:subject/>
  <dc:title>Presentación de PowerPoint</dc:title>
</cp:coreProperties>
</file>