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806-E7C9-4FA4-A3C8-EC6BB95F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0FD-CC61-4FD5-B2EF-1A651949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506-61ED-4982-8C83-D12B6209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967-A8C0-4777-99B8-9AC1DD2F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CFA1-3C5A-458F-B67A-D10E6D9B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B8A9-DD68-4BF0-BEF5-04F6B370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AE9D-CBA2-4BDE-922A-611BE451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01EC-5008-4D07-974D-A0480171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AB30-1477-4685-952B-AEEC06AA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507D-039E-4809-9A5F-959E16F2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029C-7937-45E4-83F0-1C9D1995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935-C5AD-4810-935E-8452CA64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D173-5F14-4449-B454-E7E8AC3F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A490-9043-42F2-9CD6-CEA95E6D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39C0-803A-4EEE-AFB0-A6F2DC88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0F48-145D-4EE2-8ECA-4BA35016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BB77-5774-4BBF-AFB9-8C752F12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90C-E792-43CD-AF6A-968C844A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DBE-E330-431C-AC6F-D9A296BE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194-322D-44EA-BCD5-EEE8B26B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1CE-AE7A-4513-82BD-25AE1B39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8B4-DCC1-4523-9AC3-1F01763B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596-1E51-4D58-B552-4CECB659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4BB-EB85-4956-B120-628D6832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C8B0-E3E7-459C-A5A6-B204E12FEEF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9CD0-D5D0-4836-8D33-E66F71B1AAA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cc6600"/>
                </a:solidFill>
                <a:latin typeface="Times New Roman"/>
              </a:rPr>
              <a:t>EDUCACIÓN DE CALIDA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1148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ICENCIA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ARIO RENÉ REYNOSO 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UNIVERSIDAD GALILE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cc6600"/>
                </a:solidFill>
                <a:latin typeface="Times New Roman"/>
              </a:rPr>
              <a:t>LA REALIDAD NACIONAL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n relación con los Establecimientos educativos 48 de 599, obtuvieron resultados satisfactorios en las pruebas de matemáticas y lenguaj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promedio fue entre 60 y 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39 son del Departamento de Guatemala y 9 Departamentales, con 2 públ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cc6600"/>
                </a:solidFill>
                <a:latin typeface="Times New Roman"/>
              </a:rPr>
              <a:t>LA REALIDAD NACIONAL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os alumnos que manifiestan ciertas característic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Jóvenes que leen muy po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ficientes hábitos  y técnica de lec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ctitudes negativas hacia el aprendiz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Búsqueda del menor esfuerzo y el máximo de provech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cc6600"/>
                </a:solidFill>
                <a:latin typeface="Times New Roman"/>
              </a:rPr>
              <a:t>LA REALIDAD NACIONAL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n Profeso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Que tienen poca capacitación doc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 conocimientos obsoletos y metodologías anticu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ficiente conocimiento y uso de tecnolo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sconocimientos de nuevas metodologías y estrategias de enseñanza y aprendiz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cc6600"/>
                </a:solidFill>
                <a:latin typeface="Times New Roman"/>
              </a:rPr>
              <a:t>¿QUÉ ES CALIDAD EDUCATIVA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s la que promueve el progreso de sus estudiantes en una amplia gama de logros intelectuales, sociales, morales y emocionales, tenidndo en cuenta su nivel socioeconómico, su medio familiar y aprendizaje previo. Un sistema escolar eficaz que maximiza la capacidad de las escuelas para alcanzar esos resultados (J.  Mortimo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cc6600"/>
                </a:solidFill>
                <a:latin typeface="Times New Roman"/>
              </a:rPr>
              <a:t>¿QUÉ ES CALIDAD EDUCATIV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s cumplir siempre los requisitos (necesidades y expectativas) de los clientes y  demás partes interesa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s definida por los clientes (Educandos, padres, empleadores, maestros, gobiernos, etc: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or las partes interesadas (Sociedad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cc6600"/>
                </a:solidFill>
                <a:latin typeface="Times New Roman"/>
              </a:rPr>
              <a:t>REQUISITOS DE LA CALIDAD EDUCATIVA: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Recursos Materiales: Aulas de clase, bibliotecas, laboratorios, recursos educativos, mobiliario y laboratorios de computación con Internet y correo electrón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Dirección, gestión administrativa y académica del centro: labor directiva, organización, control y coordin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cc6600"/>
                </a:solidFill>
                <a:latin typeface="Times New Roman"/>
              </a:rPr>
              <a:t>REQUISITOS DE LA CALIDAD EDUCATIVA: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Aspectos pedagógicos: Adecuación de los objetivos y los contenidos, tratamiento de la diversidad, metodología didáctica, utilización de los recursos educativos, evaluación, tuturías y logro de los objetivos previs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cc6600"/>
                </a:solidFill>
                <a:latin typeface="Times New Roman"/>
              </a:rPr>
              <a:t>REQUISITOS DE LA CALIDAD EDUCATIVA: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os recursos humanos: Nivel científico y didáctico del profesor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xperiencia y actitudes proactivas del personal, capacidad para trabajar en equipo, tiempo de dedicación, compromi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os servicios de calidad los realizan las persona que conforman la Institu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cc6600"/>
                </a:solidFill>
                <a:latin typeface="Times New Roman"/>
              </a:rPr>
              <a:t>FACTORES DE LA CALIDAD EN LA ENSEÑANZA UNIVERSITARIA: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a actitudes, concepción de la enseñanza y la actuación del profesorado: Los principios del pedagógicos, atención a los aprendizaje de los estudiantes, interés por la asignatura, establecimiento de  estimulos para promover su participación, buna comunicación y evauación adecu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cc6600"/>
                </a:solidFill>
                <a:latin typeface="Times New Roman"/>
              </a:rPr>
              <a:t>FACTORES DE LA CALIDAD EN LA ENSEÑANZA UNIVERSITARIA: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mpetencia del Profesorado: nivel y actualidad de sus conocimientos teóricos y práctic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apacidad para su transmisión, dotes didácticas y formación contínu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reatividad e innov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cc6600"/>
                </a:solidFill>
                <a:latin typeface="Times New Roman"/>
              </a:rPr>
              <a:t>LA ERA DEL CONOCIMIEN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stamos viviendo en la era del Cono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Vivimos en una sociedad donde el Conocimiento es necesa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conocimiento es el que dirige la globalización de la economía, de las sociedades y de la Educ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cc6600"/>
                </a:solidFill>
                <a:latin typeface="Times New Roman"/>
              </a:rPr>
              <a:t>FACTORES DE LA CALIDAD EN LA ENSEÑANZA UNIVERSITARIA: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lan de estudios: Contenidos teóricos y prácticos, adecuacíon a los estudiantes y ala demandas sociale de los correspondientes perfiles profesion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Infraestructura y materiales: Instalaciones, equipos, materiales didáctico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cc6600"/>
                </a:solidFill>
                <a:latin typeface="Times New Roman"/>
              </a:rPr>
              <a:t>FACTORES DE LA CALIDAD EN LA ENSEÑANZA UNIVERSITARIA: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Organización de la Enseñanza: Planificación detallada, distribución de los estudiantes enre lo sgrupos, adecuación de los hor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valuación de la calidad: que permita aprender de los errores y seguir mejor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cc6600"/>
                </a:solidFill>
                <a:latin typeface="Times New Roman"/>
              </a:rPr>
              <a:t>FACTORES DE LA CALIDAD EN LA ENSEÑANZA UNIVERSITARIA: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Transparencia informativa en la Institución: que facilitará la compartición del conocimiento y generará confianz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articipación de todos los implicados: Liderazgo participativo, clima de trabajo favorable, desarrollo y crecimiento pers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cc6600"/>
                </a:solidFill>
                <a:latin typeface="Times New Roman"/>
              </a:rPr>
              <a:t>CARACTERÍSTICA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conomía dirigida por conocimientos glob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a comunicación como direc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aprendizaje como atributo sostenido y competitiv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conocimiento compartido contra el atesoramiento del cono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cc6600"/>
                </a:solidFill>
                <a:latin typeface="Times New Roman"/>
              </a:rPr>
              <a:t>SE FUNDAMENTA EN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Capital Humano del que se dispo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Trabaja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ducadores y educan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aestros y Profesor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Nuevas tecnolog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Nuevos softw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rogramas más actualizado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929880"/>
            <a:ext cx="748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cc6600"/>
                </a:solidFill>
                <a:latin typeface="Times New Roman"/>
              </a:rPr>
              <a:t>RETOS DE LOS EGRESADO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umplir con la oferta y la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roblemas para elegir, analizar y emplear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Investigar, generar procesos y técnicas innovando las existen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Necesidad de un aprendizaje distinto y perman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cc6600"/>
                </a:solidFill>
                <a:latin typeface="Times New Roman"/>
              </a:rPr>
              <a:t>LA CONFERENCIA MUNDIAL SOBRE EDUCACIÓN SUPERIOR EXPUSO: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s necesario propiciar el aprendizaje permanente, proporcionar las competencias adecuadas para contribuír al desarrollo cultural, social y económico de la sociedad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53960" y="685440"/>
            <a:ext cx="748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cc6600"/>
                </a:solidFill>
                <a:latin typeface="Times New Roman"/>
              </a:rPr>
              <a:t>LAS 4 FUNCIONES DE LA EDUCACIÓN SUPERIOR: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reparar generaciones con nuevos conocimientos (Las funciones de investigacion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ntrenar personas altamente calificadas (La Función de la educació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roporcionar servicios a la sociedad (La función soci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jercer la crítica social (La función éti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cc6600"/>
                </a:solidFill>
                <a:latin typeface="Times New Roman"/>
              </a:rPr>
              <a:t>LA REALIDAD NACIONAL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oca inversión en educación 1.87 del PIB, Brasil invierte el 4.2 y Sudafrica el 5.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83% de los estudiantes que finalizaron el diversificado no aprobaron las pruebas del Ministerio de Educación y de la Universidad de San Carlos de Guatema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cc6600"/>
                </a:solidFill>
                <a:latin typeface="Times New Roman"/>
              </a:rPr>
              <a:t>LA REALIDAD NACIONAL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informe del  Índice de Desearrollo de la Educación para Todos publicado en Brasil en la segunda semana de noviembre coloca a Guatemala entre uno de los 35 países que tienen menor calidad educat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9:18:39Z</dcterms:created>
  <dc:creator>REYNOSO</dc:creator>
  <dc:description/>
  <dc:language>en-US</dc:language>
  <cp:lastModifiedBy>REYNOSO</cp:lastModifiedBy>
  <dcterms:modified xsi:type="dcterms:W3CDTF">2004-11-24T05:26:19Z</dcterms:modified>
  <cp:revision>11</cp:revision>
  <dc:subject/>
  <dc:title>EDUCACIÓN DE CALIDAD</dc:title>
</cp:coreProperties>
</file>