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8763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18F-68CE-43B6-99F4-87191FD1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17680" y="4130640"/>
            <a:ext cx="730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B64-3D8A-4A5C-958E-5CC3904F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1768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276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596-0A73-4594-9A61-E94EB863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9080" y="198108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60480" y="198108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17680" y="413064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89080" y="413064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60480" y="413064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250-258A-4610-994F-C968EA92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E1F0-DE6B-4415-A701-B0DF6CE5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EE37-C7C0-4EF4-B35A-8113BED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DB27-900A-494D-AD4A-B34E2C05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76B2-40D3-4C9F-B4C0-661C8D3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4AC3-DC32-4D03-9BA5-8F385F40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64840" y="304560"/>
            <a:ext cx="724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D050-C3E7-41F4-88BF-2DF1D4CB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1768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00A2-EDA1-4A55-8C7A-652DC93B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307-6579-4170-8E1A-01EAD00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276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3970-0B11-49CA-8313-6BFA66C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17680" y="4130640"/>
            <a:ext cx="730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2394-6B76-4FFB-818F-A59080F5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17680" y="4130640"/>
            <a:ext cx="730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9A57-9906-4934-A107-37392D3B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1768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276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2D5D-BB67-4E8E-A551-690E9F3C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89080" y="198108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60480" y="198108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17680" y="413064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89080" y="413064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360480" y="4130640"/>
            <a:ext cx="235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D791-E675-47C0-9314-C69E0558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30D-A5EB-4EFF-82A4-2109DF30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D63-E964-437B-BB16-E0E9B15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A6B-BB9A-4DE0-8AE0-BEAAE59B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464840" y="304560"/>
            <a:ext cx="724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B56-E559-4516-958E-3C17F5A7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1768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9CB-FAE0-45E1-B886-2F157AC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2760" y="413064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2E2-AB22-4554-9107-D0A6F5A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1981080"/>
            <a:ext cx="3566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17680" y="4130640"/>
            <a:ext cx="730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679-E864-4A0F-A163-45F29845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760600" cy="6856560"/>
            <a:chOff x="0" y="0"/>
            <a:chExt cx="87606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07960" cy="6856560"/>
              <a:chOff x="0" y="0"/>
              <a:chExt cx="1407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0364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320"/>
                <a:ext cx="13993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8640" y="1623960"/>
                <a:ext cx="13536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640" y="3313080"/>
                <a:ext cx="13536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40" y="5016600"/>
                <a:ext cx="13536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10560" y="1631880"/>
              <a:ext cx="7250040" cy="189000"/>
              <a:chOff x="1510560" y="1631880"/>
              <a:chExt cx="725004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14880" y="1643040"/>
                <a:ext cx="724572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19200" y="181764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19200" y="177948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19200" y="173196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19200" y="167796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10560" y="1631880"/>
                <a:ext cx="724860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18760" y="6248520"/>
            <a:ext cx="170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638520" y="6248520"/>
            <a:ext cx="2774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924240" y="6248520"/>
            <a:ext cx="182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2078-7DF2-4A30-A2E0-B5B19B09461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713080" cy="6856560"/>
            <a:chOff x="0" y="0"/>
            <a:chExt cx="871308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463040" y="3090960"/>
              <a:ext cx="7250040" cy="188640"/>
              <a:chOff x="1463040" y="3090960"/>
              <a:chExt cx="725004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467360" y="3101760"/>
                <a:ext cx="724572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71680" y="327636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71680" y="323820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71680" y="319068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71680" y="3136680"/>
                <a:ext cx="724140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63040" y="3090960"/>
                <a:ext cx="724860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11200" cy="6856560"/>
              <a:chOff x="0" y="0"/>
              <a:chExt cx="141120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0364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11200" cy="6405480"/>
                <a:chOff x="0" y="65160"/>
                <a:chExt cx="141120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3993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57600" y="65160"/>
                  <a:ext cx="13536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640" y="3313080"/>
                  <a:ext cx="135396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640" y="5016600"/>
                  <a:ext cx="135396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4360" y="1806120"/>
            <a:ext cx="708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460520" y="6350040"/>
            <a:ext cx="165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490560" y="6350040"/>
            <a:ext cx="3306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083000" y="635004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1AAB-A453-4C09-B8FF-899108B6F71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38120" y="1604520"/>
            <a:ext cx="788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84360" y="1806120"/>
            <a:ext cx="708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TEDRÁTICOS DEL NUEVO MILENI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82560" y="3559320"/>
            <a:ext cx="6134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NCI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IO RENÉ REYNOSO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DAD GALI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UESTRO RET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NTICIP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rciona la información que nos permitirá estar en el lugar correcto en el momento correcto con un excelente e innovador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predecir las necesidades del ALUMNO, innovar nuestro modo de TRANSMITIR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UESTRO RET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NOV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a manera de obtener una VENTAJA COMPETITIVA. El cambio es lo permanente, hay que INNOVAR constant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que INNOVAR la forma de dar clases, la utilización de nuevas técnicas audiovisuales, metodologías, estrategias y promover el aprendizaje signif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UESTRO RETO: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14000" y="2057040"/>
            <a:ext cx="74487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XCELENC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nuestras Autor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nosotros mismos como Prof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nuestros conocimientos actua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nuestra exigencia de que SEAN  MEJORES NUESTROS 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EL MANEJO DE LA CALIDAD TOTAL EN NUESTRA COMUNIDAD EDUC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ALUMNOS Y CATEDRÁTICOS EXCELENTE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SERES EXCELENTES SON AQUELLOS QUE ESTÁN INTENTANDO HACER LAS COSAS SIEMPRE EN FORMA SUPERIOR. DESAFÍESE A SÍ MISMO Y SUEÑE CON CAMBIOS DE ORDEN SUPERIOR Y LUCHE INCANSABLEMENTE POR LOGRARL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UESTRO RET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ALIZACIÓN ES LA EXPRESIÓN PLENA DE NUESTRAS POTENCIALIDADES Y EL ÚNICO CAMINO PARA LOGRAR LA EXCELENCIA ES TENER EL VALOR Y EL CORAJE DE EXTRAER LO MEJOR DE NOSOTROS MISM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NUESTRO RET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78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ando existen problemas tenemos dos formas de reaccion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r parte del probl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r parte de la 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Dónde estas t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E01511_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1890720" cy="1981440"/>
          </a:xfrm>
          <a:prstGeom prst="rect">
            <a:avLst/>
          </a:prstGeom>
          <a:ln w="0">
            <a:noFill/>
          </a:ln>
        </p:spPr>
      </p:pic>
      <p:pic>
        <p:nvPicPr>
          <p:cNvPr id="148" name="PE01561_" descr=""/>
          <p:cNvPicPr/>
          <p:nvPr/>
        </p:nvPicPr>
        <p:blipFill>
          <a:blip r:embed="rId3"/>
          <a:stretch/>
        </p:blipFill>
        <p:spPr>
          <a:xfrm>
            <a:off x="5334120" y="4952880"/>
            <a:ext cx="275436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BD06990_" descr=""/>
          <p:cNvPicPr/>
          <p:nvPr/>
        </p:nvPicPr>
        <p:blipFill>
          <a:blip r:embed="rId4"/>
          <a:stretch/>
        </p:blipFill>
        <p:spPr>
          <a:xfrm>
            <a:off x="4343400" y="3276720"/>
            <a:ext cx="18082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N TRABAJ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6160" y="1980720"/>
            <a:ext cx="3165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uede comprar el tiempo de un h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uede comprar su presencia física en un lugar determi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uede comprar un cierto número de movimientos por hora y por día. SE PUEDE COMPRAR UN 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172080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DINERO" descr=""/>
          <p:cNvPicPr/>
          <p:nvPr/>
        </p:nvPicPr>
        <p:blipFill>
          <a:blip r:embed="rId3"/>
          <a:stretch/>
        </p:blipFill>
        <p:spPr>
          <a:xfrm>
            <a:off x="6791400" y="1752480"/>
            <a:ext cx="1971720" cy="1605240"/>
          </a:xfrm>
          <a:prstGeom prst="rect">
            <a:avLst/>
          </a:prstGeom>
          <a:ln w="0">
            <a:noFill/>
          </a:ln>
        </p:spPr>
      </p:pic>
      <p:pic>
        <p:nvPicPr>
          <p:cNvPr id="154" name="PENSANDO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1752840" cy="2427120"/>
          </a:xfrm>
          <a:prstGeom prst="rect">
            <a:avLst/>
          </a:prstGeom>
          <a:ln w="0">
            <a:noFill/>
          </a:ln>
        </p:spPr>
      </p:pic>
      <p:pic>
        <p:nvPicPr>
          <p:cNvPr id="155" name="MONTAJE" descr=""/>
          <p:cNvPicPr/>
          <p:nvPr/>
        </p:nvPicPr>
        <p:blipFill>
          <a:blip r:embed="rId5"/>
          <a:stretch/>
        </p:blipFill>
        <p:spPr>
          <a:xfrm>
            <a:off x="7010280" y="3505320"/>
            <a:ext cx="17528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ICIATIVA, COMPROMISO Y LEALTA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30360" y="1828440"/>
            <a:ext cx="3651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lo que no se puede comprar es el: ENTUSIASMO, LA INICIATIVA, EL COMPROMISO Y LA LEALTAD DE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 hay que CONQUISTARLO Y SABERLO CONQUIST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ALUDO" descr=""/>
          <p:cNvPicPr/>
          <p:nvPr/>
        </p:nvPicPr>
        <p:blipFill>
          <a:blip r:embed="rId2"/>
          <a:stretch/>
        </p:blipFill>
        <p:spPr>
          <a:xfrm>
            <a:off x="5661000" y="1981080"/>
            <a:ext cx="254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UALIDADES DE UN CATEDRÁT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78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ilidad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ocimiento y profundidad de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 muy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 un Facili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samiento Crí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D07139_" descr=""/>
          <p:cNvPicPr/>
          <p:nvPr/>
        </p:nvPicPr>
        <p:blipFill>
          <a:blip r:embed="rId2"/>
          <a:stretch/>
        </p:blipFill>
        <p:spPr>
          <a:xfrm>
            <a:off x="5419800" y="1981080"/>
            <a:ext cx="31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996633"/>
                </a:solidFill>
                <a:latin typeface="Times New Roman"/>
              </a:rPr>
              <a:t>CUALIDADES DE UN CATEDRÁT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78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 para integrarse con los estudi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gración de lo teórico - pr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 de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en hum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D07224_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209680" cy="1904760"/>
          </a:xfrm>
          <a:prstGeom prst="rect">
            <a:avLst/>
          </a:prstGeom>
          <a:ln w="0">
            <a:noFill/>
          </a:ln>
        </p:spPr>
      </p:pic>
      <p:pic>
        <p:nvPicPr>
          <p:cNvPr id="119" name="BD07223_" descr=""/>
          <p:cNvPicPr/>
          <p:nvPr/>
        </p:nvPicPr>
        <p:blipFill>
          <a:blip r:embed="rId3"/>
          <a:stretch/>
        </p:blipFill>
        <p:spPr>
          <a:xfrm>
            <a:off x="5715000" y="4495680"/>
            <a:ext cx="23194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UALIDADES DE UN CATEDRÁT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78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ar su Escuela o Colegio y su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 humilde  y senc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erto al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ir la libre participación de los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D06630_" descr=""/>
          <p:cNvPicPr/>
          <p:nvPr/>
        </p:nvPicPr>
        <p:blipFill>
          <a:blip r:embed="rId2"/>
          <a:stretch/>
        </p:blipFill>
        <p:spPr>
          <a:xfrm>
            <a:off x="5148360" y="2611440"/>
            <a:ext cx="35780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996633"/>
                </a:solidFill>
                <a:latin typeface="Times New Roman"/>
              </a:rPr>
              <a:t>CUALIDADES DE UN CATEDRÁT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17320" y="1980720"/>
            <a:ext cx="3578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eto, autoestima y valoración por sí mismo y los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ocimiento de la re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námico e investi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ozar con lo que h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ocer la re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7213_" descr=""/>
          <p:cNvPicPr/>
          <p:nvPr/>
        </p:nvPicPr>
        <p:blipFill>
          <a:blip r:embed="rId2"/>
          <a:stretch/>
        </p:blipFill>
        <p:spPr>
          <a:xfrm>
            <a:off x="5243400" y="1981080"/>
            <a:ext cx="33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UESTRA FORMACIÓN ANTE EL NUEVO MILENI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onocimientos de diferentes áreas relacionadas con nuestra Prof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a constante, asistencia a Talleres y Seminarios de Capacitación, Convenciones, Conferencias,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ización utilizando los recursos electrónicos más actualizados: Internet. Conferencias vía Satélite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CARACTERÍSTICAS DEL CATEDRÁTICO DEL NUEVO MILENIO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17320" y="198108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 AGENTE DE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INVESTI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ueve el clima agradable y de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do hacia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fi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3680" y="198108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ización académica 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en comunicador y con buenas relaciones interpers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ciona positivamente los conflictos y resuelve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UESTRO RET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SERES EXCELENTES SON AQUELLOS QUE ESTÁN INTENTANDO HACER LAS COSAS SIEMPRE EN FORMA SUPERIOR. DESAFÍESE A SÍ MISMO Y SUEÑE CON CAMBIOS DE ORDEN SUPERIOR Y LUCHE INCANSABLEMENTE POR LOGRARL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64840" y="30456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UESTRO RET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17680" y="19810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poder tener éxito en el Siglo XXI, debemos desarrollar en nuestro personal y en nosotros 3 cla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NTICIP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NO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XCEL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17:46:50Z</dcterms:created>
  <dc:creator>FAMILIA REYNOSO</dc:creator>
  <dc:description/>
  <dc:language>en-US</dc:language>
  <cp:lastModifiedBy>REYNOSO</cp:lastModifiedBy>
  <cp:lastPrinted>1999-05-27T20:18:10Z</cp:lastPrinted>
  <dcterms:modified xsi:type="dcterms:W3CDTF">2004-11-23T17:19:54Z</dcterms:modified>
  <cp:revision>5</cp:revision>
  <dc:subject/>
  <dc:title>CATEDRÁTICOS ANTE EL NUEVO MILENIO</dc:title>
</cp:coreProperties>
</file>