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3B0D-A9C5-4043-9F5B-06171067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0377-F2E3-41D7-8AD9-956007A6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8BC-118D-453D-AC18-AA0DD136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C36-DB65-43BF-85AD-3CC3C051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C42F-14D1-4432-8E1F-1379AF19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A8D9-7022-408C-90C5-838AD3D2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3502-5420-4894-828A-D002376B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9CDC-22D1-44D0-A28F-90863B2E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637E-67DA-442B-B9F8-F971F98B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8728-5032-4E32-8F62-08BC9E4A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1541-F40C-4586-A061-2EF26517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2BF-3E47-426E-B046-7038C815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5462-A84F-48E3-88D2-FF58A55F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84BB-94F7-4DA1-989C-BDD57C81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F0BD-DA4D-4484-A316-2FE40E40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BBF4-D1C1-42A7-B25E-65B98CD6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34AB-DD5B-4D44-8883-0B1EDC88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577E-C87F-4E32-8939-2FEE8A89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8C05-06A9-42EC-B517-8D322E8A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91B1-476F-437D-A31A-56D76C63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A5A3-0530-4F65-9C46-2EB8F5A0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FEC0-4BF4-46D8-A52B-AC6FE2F5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5DAF-8FB8-4A1D-984A-833F0B93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E2B5-887B-4A13-A90A-7EE08361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3551-31B2-432A-A2F4-06E02BF48704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6BFB-C0FD-44E1-9B6E-48B4CB056843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EDUCACIÓN PARA LA CALIDAD TOTAL PERSON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ICENCIADO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ARIO RENÉ REYNOSO 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UNIVERSIDAD GALILE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cc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APRENDER A HACER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 u="sng">
                <a:solidFill>
                  <a:srgbClr val="eaeaea"/>
                </a:solidFill>
                <a:uFillTx/>
                <a:latin typeface="Times New Roman"/>
              </a:rPr>
              <a:t>Aprender a Trabajar: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Es una manera de ser que lleva a dedicarse a producir bienes o servicios con miras al propio perfeccionamiento y al fin de la socieda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Prepararse para la vida, para ejerecer una profesión y construír el mundo y ser creativ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 una forma de sentirse realizado a través de hacer bien, con calidad su trabaj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cc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APRENDER A HACER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 u="sng">
                <a:solidFill>
                  <a:srgbClr val="eaeaea"/>
                </a:solidFill>
                <a:uFillTx/>
                <a:latin typeface="Times New Roman"/>
              </a:rPr>
              <a:t>Aprender a tener: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Es ser propietario, poseedor o usuario de las cos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 aprender a utilizarlas para su beneficio y para el de los demá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e permite aprender a compartir, a desarrollar generosidad, servir a otros a través de lo que tien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cc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APRENDER A HACER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 u="sng">
                <a:solidFill>
                  <a:srgbClr val="eaeaea"/>
                </a:solidFill>
                <a:uFillTx/>
                <a:latin typeface="Times New Roman"/>
              </a:rPr>
              <a:t>Aprender a Jugar: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Es aprender a descubrir la riqueza del ejercico, el descanso, el entretenimiento, la recre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 el descanso físico, mental y  permite la alegría de vivi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 utilizar el tiempo libre, administar el ocio y desarrollar una salud física y mental que le lleva a realizarse más plenamen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cc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APRENDER A APRENDER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La educación de Calidad busca el “mejoramiento continuo de los Educandos y los que participan en el proceso educativo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No basta tener una profesión, conocimientos generales o haber estudiado una carrer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Hay neceisdad de asistir a seminarios, conferencias, actualizarse, desarrollar nuevos conocimientos para ser competitivos profesionalment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cc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APRENDER A APRENDER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 u="sng">
                <a:solidFill>
                  <a:srgbClr val="eaeaea"/>
                </a:solidFill>
                <a:uFillTx/>
                <a:latin typeface="Times New Roman"/>
              </a:rPr>
              <a:t>Aprender a informarse: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Debemos de aprender a recopilar información importante, que nos sirva para poder ejercer nuestra profesión, para actualizar nuestros conocimient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 también una forma de comunicación y de intercambio del conocimient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cc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APRENDER A APRENDER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 u="sng">
                <a:solidFill>
                  <a:srgbClr val="eaeaea"/>
                </a:solidFill>
                <a:uFillTx/>
                <a:latin typeface="Times New Roman"/>
              </a:rPr>
              <a:t>Aprender a ser creativo: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Es la capacidad para abrir caminos con la inteligenci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 utlizar la imaginación que motiva al ser humano para crear cosas nuev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xige imaginar, desarrollar la fantasía y la intui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Desarrollar ambos hemisferios cerebrales y utilzar nuestra inteligencia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cc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APRENDER A APRENDER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 u="sng">
                <a:solidFill>
                  <a:srgbClr val="eaeaea"/>
                </a:solidFill>
                <a:uFillTx/>
                <a:latin typeface="Times New Roman"/>
              </a:rPr>
              <a:t>Aprender a comunicar: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Es expresarse bien –oral, gestual y audiovisualmente –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 transmitir mensajes, ideas, dialogar, escuchar y aprender de otros mediante la información que se transmi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Genera confianza, seguridad, estimula la participación y permite el intercambio de ideas, pensamientos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cc6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Times New Roman"/>
              </a:rPr>
              <a:t>APRENDER A EMPREND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nsiste en desarrollar el “Espíritu Empresarial”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Implica que los estudiantes investiguen, a que innoven, desarrollen nuevos servicios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Desarrollar personas promotoras, pionera, organizadoras, líderes y emprendedoras de nuevos proyect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cc6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Times New Roman"/>
              </a:rPr>
              <a:t>APRENDER A EMPREND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 u="sng">
                <a:solidFill>
                  <a:srgbClr val="eaeaea"/>
                </a:solidFill>
                <a:uFillTx/>
                <a:latin typeface="Times New Roman"/>
              </a:rPr>
              <a:t>Aprender a Administrar: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Consiste en aprender a organizar los recursos de una forma eficiente apra lograr los resultados que se desea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 asegurar la comunicación efectiva y afectiva de todos los miembros de su grupo y saber poner en movimiento ordenado losmedios que necesitan la personas para cumplir con sus carg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cc6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Times New Roman"/>
              </a:rPr>
              <a:t>APRENDER A EMPREND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 u="sng">
                <a:solidFill>
                  <a:srgbClr val="eaeaea"/>
                </a:solidFill>
                <a:uFillTx/>
                <a:latin typeface="Times New Roman"/>
              </a:rPr>
              <a:t>Aprender a dirigir: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Es desarrollar cierto tipo de habilidades: Hay que saber organizar, organizar, manejar eltiempo, desarrollar estrategi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 hacer trabajar a otros y traduce la misión y los fines a políticas y objetiv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tablece metas a corto y mediato plaz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Times New Roman"/>
              </a:rPr>
              <a:t>LAS DIMENSIONES DE LA EDUCACIÓN DE LA CALIDAD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aeaea"/>
                </a:solidFill>
                <a:latin typeface="Times New Roman"/>
              </a:rPr>
              <a:t>APRENDER A SER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aeaea"/>
                </a:solidFill>
                <a:latin typeface="Times New Roman"/>
              </a:rPr>
              <a:t>APRENDER A HACER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aeaea"/>
                </a:solidFill>
                <a:latin typeface="Times New Roman"/>
              </a:rPr>
              <a:t>APRENDER A APRENDER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aeaea"/>
                </a:solidFill>
                <a:latin typeface="Times New Roman"/>
              </a:rPr>
              <a:t>APRENDER A EMPRENDER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aeaea"/>
                </a:solidFill>
                <a:latin typeface="Times New Roman"/>
              </a:rPr>
              <a:t>APRENDER A CONVIVIR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cc6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Times New Roman"/>
              </a:rPr>
              <a:t>APRENDER A EMPREND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 u="sng">
                <a:solidFill>
                  <a:srgbClr val="eaeaea"/>
                </a:solidFill>
                <a:uFillTx/>
                <a:latin typeface="Times New Roman"/>
              </a:rPr>
              <a:t>Aprender a Liderar: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Es desarrollar la capacidad de conducir a otros libremente al logro de sus objetivos personales o colectiv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 desarrollar las potencialidades de las personas yproducir resultados. Cree en el cambio y lo produce transformando la cultura de la empres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cc6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APRENDER A CONVIVIR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Desarrollar esta dimensión implica que aprenda a saber compartir, relacionars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l hombre es un ser con los demás ypara los demá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 el promotor del compañerismo, la camaradería, la solidaridad, la cortesía, la lealtad, el entusiasmo, la amabilidad, es darle a los demás el regalo de la acepta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cc6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APRENDER A CONVIVIR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 u="sng">
                <a:solidFill>
                  <a:srgbClr val="eaeaea"/>
                </a:solidFill>
                <a:uFillTx/>
                <a:latin typeface="Times New Roman"/>
              </a:rPr>
              <a:t>Aprender a ser amigo: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 aprender el trato personalizado para cada una de las personas con las que se labor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Une y rfuerza para trabajar en equipo, se crea una cultura en que todos ayudan y responden por tod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e desarrolla la sinceridad, la generosidad, la alegría, el espíritu de servicio, comprensión y respet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cc6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APRENDER A CONVIVIR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 u="sng">
                <a:solidFill>
                  <a:srgbClr val="eaeaea"/>
                </a:solidFill>
                <a:uFillTx/>
                <a:latin typeface="Times New Roman"/>
              </a:rPr>
              <a:t>Aprender a ser solidario: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Implica el compromios de apoyar y ayudar cuando su gente lo necesit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leva al estudiante a aprender a servir, a estar disponible, trata a los demás como personas y reconocer la importancia que tiene el Recurso Humano dentro de las Institucion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cc6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APRENDER A CONVIVIR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 u="sng">
                <a:solidFill>
                  <a:srgbClr val="eaeaea"/>
                </a:solidFill>
                <a:uFillTx/>
                <a:latin typeface="Times New Roman"/>
              </a:rPr>
              <a:t>Aprender a ser buen ciudadano: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Implica que se debe aprender a dirigir la propia vida como un ejemplo en la convivenci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 la proyección hacia el medio en donde se encuentra, buscar el bienestar de toda la socieda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umple con las leyes, vive y custodia los usos y costumbres , desarrolla programas de beneficio soci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cc6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APRENDER A CONVIVIR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 u="sng">
                <a:solidFill>
                  <a:srgbClr val="eaeaea"/>
                </a:solidFill>
                <a:uFillTx/>
                <a:latin typeface="Times New Roman"/>
              </a:rPr>
              <a:t>Aprender a ser buen ciudadano: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Es desarrollar actividades que protegenel medio ambiente, brinda apoyo cuando se le necesit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Promueve programas de proyección al ambiente donde se encuentra, promueve la solidaridad y la convivenci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APRENDER A SER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 Educación de calidad debe permitir a los educandos a que aprendan que son personas únicas, irrepetibles en el mundo, que tienen una dignidad con infinitas posibilidades, por sus dos operaciones espirituales: entender y quere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 tener una personalidad propia, definida y coherente que sabe lo que quiere en la vid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APRENDER A SER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 desarrollar los valores de una personalidad auténtica co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arácter, coherencia, confianz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Fortaleza, prudencia, veracida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encillez, alegría, tenacida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Finura de espíri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APRENDER A SER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Para llegar a Ser, es necesario 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 u="sng">
                <a:solidFill>
                  <a:srgbClr val="eaeaea"/>
                </a:solidFill>
                <a:uFillTx/>
                <a:latin typeface="Times New Roman"/>
              </a:rPr>
              <a:t>AprenderPensar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: Es reflexionar, analizar, entender, comprender, discernir, criticar, informarse,comparr, aplciar la lógica al razonamiento, idear, interpretar, crear, plantearse, interrogantes, resolverlos, sintetizar, esuematizar, argumenta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APRENDER A SER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 u="sng">
                <a:solidFill>
                  <a:srgbClr val="eaeaea"/>
                </a:solidFill>
                <a:uFillTx/>
                <a:latin typeface="Times New Roman"/>
              </a:rPr>
              <a:t>Aprender a Pensar: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Se aprende a pensar cuando se comprende el “qué, el por qué, el cómo, el para qué”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uando se sabe enfretar los problema, definirlos, expresarlos, buscar las soluciones y comporbar su validez, dar razones, emitir juicios coherentes, rlacionar ideas con otra, clarificarlas, ver causas y efectos, distinguir entre verdad, opinión, duda, falsedad, error, certez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APRENDER A SER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 u="sng">
                <a:solidFill>
                  <a:srgbClr val="eaeaea"/>
                </a:solidFill>
                <a:uFillTx/>
                <a:latin typeface="Times New Roman"/>
              </a:rPr>
              <a:t>Aprender a Obrar: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 aprender a desenvolverse adecuadamente en la vida y tener un aconducta estable que conduce a una vida equilibrada y armónica en sus actos y sus actividad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 preguntarse por las razones que nos llevan a trabajar, a vivir y hacer las cosas. Es actuar con responsabilidad, autenticidad, flexibilidad, honradez y rectitu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APRENDER A SER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 u="sng">
                <a:solidFill>
                  <a:srgbClr val="eaeaea"/>
                </a:solidFill>
                <a:uFillTx/>
                <a:latin typeface="Times New Roman"/>
              </a:rPr>
              <a:t>Aprender a Amar: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Implica aprender a aceptar y dejar ser a la otra prson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ceptar la amistad, la fraternidad y la fili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 desarrollar la capacidad de donación, de entregarse a otra persona dando lo mejor de sí mism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l reconocimiento, aceptación y valoración de los demá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cc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APRENDER A HACER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l hacer está basaado e la ciencia, la técnica o el ar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prende a conocer, saber un oficio o profesió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ncer elementos técnicos que faciliten su trabaj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 el dominio de ciertas áreas importantes para hacer un buen trabajo o ac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23:44:29Z</dcterms:created>
  <dc:creator>REYNOSO</dc:creator>
  <dc:description/>
  <dc:language>en-US</dc:language>
  <cp:lastModifiedBy>REYNOSO</cp:lastModifiedBy>
  <dcterms:modified xsi:type="dcterms:W3CDTF">2004-11-24T05:28:25Z</dcterms:modified>
  <cp:revision>13</cp:revision>
  <dc:subject/>
  <dc:title>EDUCACIÓN PARA LA CALIDAD TOTAL PERSONAL</dc:title>
</cp:coreProperties>
</file>