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wmf" ContentType="image/x-wmf"/>
  <Override PartName="/ppt/media/image14.jpeg" ContentType="image/jpeg"/>
  <Override PartName="/ppt/media/image2.png" ContentType="image/png"/>
  <Override PartName="/ppt/media/image1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CBD-7E63-4227-B2B4-04F9E11F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C342-C895-4ACC-AD7D-FD39B6A0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66E-6C51-46EA-AE61-397CB6A5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3CB2-EE6F-49E2-8244-B723CA14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18BA-0810-4041-8783-BBE5903F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F54B-E8DC-466A-8196-84B02353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6583-10F9-47BD-BBE0-EDAC76AA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C6F4-4A89-4BDA-B909-1DC2C40F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5A94-33A3-4F59-AD7E-1420428B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17E0-C39C-4DF1-81E2-4C8959CB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FD40-1678-4503-8A98-871B2CF7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8B81-49FC-4D88-9EC1-87DE606C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2A5B-237E-4144-ABB9-0ABE2DCA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E151-6CEC-44A8-9727-60BBE034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E188-DE87-476D-9AC9-4363DA48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D6E3-99FA-4ECA-8E3D-9165B3F0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0912-9636-4679-ACB9-269FA1FC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CB4-46EC-45E9-BDCF-AE193847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255-9DDE-4CE7-88E3-DE2D8BDF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AE2B-7D9E-494C-B646-2470304B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FE8-A4DF-4667-8252-65C800F0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50A-4C8F-4AB8-9FE8-0194920D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A5BD-9DC9-496B-881D-6BEA5212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6BA8-4D28-4301-ACFC-AF42FBA8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1FF2-B357-4A19-9F55-4EFCE9AF9762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2DB2-1435-4748-878D-38CF25FA7DE0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523880" y="2190600"/>
            <a:ext cx="701064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a diferencia que hace la DIFERENCI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BD00028_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6324480" cy="3241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143000" y="4114800"/>
            <a:ext cx="6629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eaeaea"/>
                </a:solidFill>
                <a:latin typeface="Times New Roman"/>
              </a:rPr>
              <a:t>¿QUÉ ES LO QUE HACE LA DIFERENCIA...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48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838080"/>
            <a:ext cx="83059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La ACTITUD de las personas hace la DIFERENCIA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23" name="PH01484J" descr=""/>
          <p:cNvPicPr/>
          <p:nvPr/>
        </p:nvPicPr>
        <p:blipFill>
          <a:blip r:embed="rId1"/>
          <a:stretch/>
        </p:blipFill>
        <p:spPr>
          <a:xfrm>
            <a:off x="0" y="3429000"/>
            <a:ext cx="2743200" cy="1816200"/>
          </a:xfrm>
          <a:prstGeom prst="rect">
            <a:avLst/>
          </a:prstGeom>
          <a:ln w="0">
            <a:noFill/>
          </a:ln>
        </p:spPr>
      </p:pic>
      <p:pic>
        <p:nvPicPr>
          <p:cNvPr id="124" name="PH01653J" descr=""/>
          <p:cNvPicPr/>
          <p:nvPr/>
        </p:nvPicPr>
        <p:blipFill>
          <a:blip r:embed="rId2"/>
          <a:stretch/>
        </p:blipFill>
        <p:spPr>
          <a:xfrm>
            <a:off x="2895480" y="4648320"/>
            <a:ext cx="1816200" cy="2209680"/>
          </a:xfrm>
          <a:prstGeom prst="rect">
            <a:avLst/>
          </a:prstGeom>
          <a:ln w="0">
            <a:noFill/>
          </a:ln>
        </p:spPr>
      </p:pic>
      <p:pic>
        <p:nvPicPr>
          <p:cNvPr id="125" name="PH01654J" descr=""/>
          <p:cNvPicPr/>
          <p:nvPr/>
        </p:nvPicPr>
        <p:blipFill>
          <a:blip r:embed="rId3"/>
          <a:stretch/>
        </p:blipFill>
        <p:spPr>
          <a:xfrm>
            <a:off x="5048280" y="3581280"/>
            <a:ext cx="180972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PH01837J" descr=""/>
          <p:cNvPicPr/>
          <p:nvPr/>
        </p:nvPicPr>
        <p:blipFill>
          <a:blip r:embed="rId4"/>
          <a:stretch/>
        </p:blipFill>
        <p:spPr>
          <a:xfrm>
            <a:off x="7334280" y="3429000"/>
            <a:ext cx="1809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LOS DESEOS PRIMARIOS DE LAS PERSONAS S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 felicida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rogres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Ganar diner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 forma de lograr estos objetivos 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iendo rico y prósper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PE01849_" descr=""/>
          <p:cNvPicPr/>
          <p:nvPr/>
        </p:nvPicPr>
        <p:blipFill>
          <a:blip r:embed="rId1"/>
          <a:stretch/>
        </p:blipFill>
        <p:spPr>
          <a:xfrm>
            <a:off x="5867280" y="3870360"/>
            <a:ext cx="2819520" cy="2225520"/>
          </a:xfrm>
          <a:prstGeom prst="rect">
            <a:avLst/>
          </a:prstGeom>
          <a:ln w="0">
            <a:noFill/>
          </a:ln>
        </p:spPr>
      </p:pic>
      <p:pic>
        <p:nvPicPr>
          <p:cNvPr id="93" name="BD07006_" descr=""/>
          <p:cNvPicPr/>
          <p:nvPr/>
        </p:nvPicPr>
        <p:blipFill>
          <a:blip r:embed="rId2"/>
          <a:stretch/>
        </p:blipFill>
        <p:spPr>
          <a:xfrm>
            <a:off x="5218200" y="1981080"/>
            <a:ext cx="22492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HAY PERSONAS Y PAÍSES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sonas que son pob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sonas que son ric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ambién hay Países que so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aíses Pob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aíses Ri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6" name="PH02944J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97" name="PH00920H" descr=""/>
          <p:cNvPicPr/>
          <p:nvPr/>
        </p:nvPicPr>
        <p:blipFill>
          <a:blip r:embed="rId2"/>
          <a:stretch/>
        </p:blipFill>
        <p:spPr>
          <a:xfrm>
            <a:off x="7010280" y="1752480"/>
            <a:ext cx="175284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BD19932_" descr=""/>
          <p:cNvPicPr/>
          <p:nvPr/>
        </p:nvPicPr>
        <p:blipFill>
          <a:blip r:embed="rId3"/>
          <a:stretch/>
        </p:blipFill>
        <p:spPr>
          <a:xfrm>
            <a:off x="5057640" y="4419720"/>
            <a:ext cx="28670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La diferencia entre países ricos y pobres no es </a:t>
            </a:r>
            <a:r>
              <a:rPr b="0" i="1" lang="es-MX" sz="4400" spc="-1" strike="noStrike">
                <a:solidFill>
                  <a:srgbClr val="ffcc66"/>
                </a:solidFill>
                <a:latin typeface="Times New Roman"/>
              </a:rPr>
              <a:t>SU ANTIGUEDA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aeaea"/>
                </a:solidFill>
                <a:latin typeface="Times New Roman"/>
              </a:rPr>
              <a:t>Países como la India y Egipto que tienen miles de años de antigüedad, son países POBRE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PH01846J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4572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Países como Australia y Nueva Zelanda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aeaea"/>
                </a:solidFill>
                <a:latin typeface="Times New Roman"/>
              </a:rPr>
              <a:t>Son países que hace poco más de 150 años eran desconocidos..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aeaea"/>
                </a:solidFill>
                <a:latin typeface="Times New Roman"/>
              </a:rPr>
              <a:t>Hoy, son Países desenvueltos y ricos..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4" name="j0145778" descr=""/>
          <p:cNvPicPr/>
          <p:nvPr/>
        </p:nvPicPr>
        <p:blipFill>
          <a:blip r:embed="rId1"/>
          <a:stretch/>
        </p:blipFill>
        <p:spPr>
          <a:xfrm>
            <a:off x="5181480" y="1933560"/>
            <a:ext cx="381024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La diferencia tampoco está en los recursos naturales que disponen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Japón tiene un territorio muy pequeño y su 80% es montañoso y malo para la agricultura y ganad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Sin embargo es la segunda potencia económica mundial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PH02995J" descr=""/>
          <p:cNvPicPr/>
          <p:nvPr/>
        </p:nvPicPr>
        <p:blipFill>
          <a:blip r:embed="rId1"/>
          <a:stretch/>
        </p:blipFill>
        <p:spPr>
          <a:xfrm>
            <a:off x="5181480" y="1933560"/>
            <a:ext cx="381024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Otro ejemplo es Suiza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Sin oceanos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una de las mayores flotas náuticas del mundo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n sus pocos kilómetros cuadrados, cría ovejas y cultiva el suelo sólo cuatro meses al año..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o tiene los productos lácteos de mejor calidad de toda Europa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n calidad muy difícil de superar; es un país pequeño que da una imagen de seguridad, orden y trabaj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Tampoco es la inteligencia de las personas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studiantes de países pobres que emigran a los ricos y consiguen resultados excelentes en su educació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Son ejecutivos excelentes, que compiten en cualquier lugar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PH01638J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4114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TAMPOCO LA RAZA HACE LA DIFERENCIA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aeaea"/>
                </a:solidFill>
                <a:latin typeface="Times New Roman"/>
              </a:rPr>
              <a:t>Personas de todas las razas se convierten en una fueza productiva en todos los países Europeos, Nórdicos o en Estados Unidos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PH01958K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2133720" cy="1676520"/>
          </a:xfrm>
          <a:prstGeom prst="rect">
            <a:avLst/>
          </a:prstGeom>
          <a:ln w="0">
            <a:noFill/>
          </a:ln>
        </p:spPr>
      </p:pic>
      <p:pic>
        <p:nvPicPr>
          <p:cNvPr id="117" name="PH01576J" descr=""/>
          <p:cNvPicPr/>
          <p:nvPr/>
        </p:nvPicPr>
        <p:blipFill>
          <a:blip r:embed="rId2"/>
          <a:stretch/>
        </p:blipFill>
        <p:spPr>
          <a:xfrm>
            <a:off x="6934320" y="1676520"/>
            <a:ext cx="1809720" cy="1752480"/>
          </a:xfrm>
          <a:prstGeom prst="rect">
            <a:avLst/>
          </a:prstGeom>
          <a:ln w="0">
            <a:noFill/>
          </a:ln>
        </p:spPr>
      </p:pic>
      <p:pic>
        <p:nvPicPr>
          <p:cNvPr id="118" name="PH01581J" descr=""/>
          <p:cNvPicPr/>
          <p:nvPr/>
        </p:nvPicPr>
        <p:blipFill>
          <a:blip r:embed="rId3"/>
          <a:stretch/>
        </p:blipFill>
        <p:spPr>
          <a:xfrm>
            <a:off x="4724280" y="3809880"/>
            <a:ext cx="1809720" cy="2057400"/>
          </a:xfrm>
          <a:prstGeom prst="rect">
            <a:avLst/>
          </a:prstGeom>
          <a:ln w="0">
            <a:noFill/>
          </a:ln>
        </p:spPr>
      </p:pic>
      <p:pic>
        <p:nvPicPr>
          <p:cNvPr id="119" name="PH01614J" descr=""/>
          <p:cNvPicPr/>
          <p:nvPr/>
        </p:nvPicPr>
        <p:blipFill>
          <a:blip r:embed="rId4"/>
          <a:stretch/>
        </p:blipFill>
        <p:spPr>
          <a:xfrm>
            <a:off x="6705720" y="3898800"/>
            <a:ext cx="22860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9T19:27:29Z</dcterms:created>
  <dc:creator>PNUD</dc:creator>
  <dc:description/>
  <dc:language>en-US</dc:language>
  <cp:lastModifiedBy>REYNOSO</cp:lastModifiedBy>
  <dcterms:modified xsi:type="dcterms:W3CDTF">2004-06-10T07:55:15Z</dcterms:modified>
  <cp:revision>3</cp:revision>
  <dc:subject/>
  <dc:title>Presentación de PowerPoint</dc:title>
</cp:coreProperties>
</file>